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18D-667E-494A-B62F-ABEA5D38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6B9-3194-4048-B4C4-6F987575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A3F17D-7694-4629-82AE-CD70D6FA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FCA7E4-517C-407B-9D7E-CC96DF1D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783884-4E21-4B01-836D-857ED48B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C24768-2BE2-4301-A503-CC59FC2F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EB3E0F-B8B4-4777-AD20-0C78DA70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DBCB40-0270-41E0-A963-754DBD63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FD0DD2-9636-479F-9CF3-D732169B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573E36-D78E-4543-AE3F-C42D2526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6F8636-D892-4A73-B5BB-A06A9045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34D-B86D-43D5-A3DF-5D9806E4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0B0-74A6-4A62-9182-EBB3010C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ED1A4-0308-4B42-AF79-11A8CA9D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5CB6C-CE49-464D-AAF5-95321DE5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968A3-0D81-436C-9C69-FD6E6783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9175B-A56A-4B5F-AA30-B0F9A83F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A53EB-66B0-4C83-8B5C-E3D5D724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1E8E7-E162-471F-991D-F9D90E70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5AF0C-7CD2-41C1-9CDD-A5E12141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37C-6F37-4D6B-948D-00CEA7A0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7F077-8400-4205-B6C5-DBB2F643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7BAB6-DDBF-454F-87AE-8405C408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1DD56-1740-4C9F-A616-9BDFC385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393B7-8E0F-4830-BFF2-3D486708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594BF-5AAE-4C71-B951-E67BC5E2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98AB-6A84-4326-857F-E5226A7E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97205-96D1-45FD-9140-2CD97945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E26C-BD73-4661-B73F-0F751441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F58A-05C9-4B3C-B66E-2A7C621B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AD5D-EC8D-42D6-B9C4-7A61108F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2CE-BA4B-4905-826C-19AE7EDA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AAE8-7630-4DCE-A51E-FBC4BCA7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6D36-F078-4852-9878-1FFA3A2D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50BF-273F-4EE2-8E94-11162CD3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E7B8-57EF-41BC-9CF7-F00CC7AF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C93A-7E1A-430A-AAF2-939B784C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017F-7652-425B-B1BD-260515DD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229C-BFFE-4D61-AD5A-E4BFEB34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9F5DA-495F-4C36-A5A8-2CCD8330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376D48-185C-4F22-92D8-A20AB025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D21C2-8BD2-445B-8CED-DCF702D3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B13-C6CB-4C61-958E-6CDE3664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28D91-FDA4-4355-ACF2-594865D7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A1A2B-FB96-4870-A763-B4811034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746566-18C0-49E0-8917-CD516591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C75CD-98A3-4580-8DB8-42B55C2A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075EF-B0A0-4F7F-8E78-7DABD037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60DC01-BC27-4BA8-9ED4-D7D04CCC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5BCDE-A690-484A-ADD7-8C7B10D6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94904-2717-4C11-BAEF-C9CEAA08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E0CA1-DF81-4E58-8501-572192BC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2B449-D37B-4E08-A124-93F1FFA6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14E-3256-4721-AA76-0F9A4275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51817-F4C0-469F-BDAC-AD5FDF64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9A6BE-C490-4327-87A0-811F3804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0D3CE-E2C7-415A-A3D7-5046B5FC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72281-3D49-4237-8E1B-8E5D9C2B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9E349-E61D-4E61-B304-6A1FAFA8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98C63-81F0-41A5-A897-D325ABC9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BB15E-7B5F-44BD-8BD7-F0404A0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77F48-06E3-4D59-8675-F3D381E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EED89-3638-4513-98AA-EA6EC4D4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C8833-1731-40CA-9E6D-C1F25FEA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80B-FB5D-4DD0-B88D-E3D43818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D9A1C-CA6F-46A2-BFE8-55C23F31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39250-3983-45C1-A14F-7C54A7C3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C545D-C2C8-4A03-BDD5-95C18183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6F6D5-953C-496E-8AEA-ADAB0CE6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D2651-72CF-4617-8580-6DD22B7E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A2518-D83F-4FDD-BB3F-3CA761BC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20254-1E2A-4AF0-B4F0-82A14C7C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9F9D4-3811-4DF2-A3B9-B3C05E0B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59780-8162-4279-91C2-6FAB9271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D9CEC-74F1-4484-8808-65DB6A6C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A35-4969-4E9B-B8E9-47C02117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76B04-437E-406E-BAE2-C47AB885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C092D-7309-4524-8768-B7F1CDB6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B6D6C-F289-429F-BCAF-34A1F5C1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4AF34-5DB3-4341-AC4B-E8682096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821AE-30D5-49E9-A0DB-0E1D9F9B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05840-5482-4675-8ABE-513EB030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2E553-9EA5-42EF-879F-F0E1EB2C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F8C68-DA92-486E-83D0-A976D952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0B864-5E07-427E-BD52-AA1F8A64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1A50A-D9CB-491C-8570-E16C3869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A51-C025-4A4B-AEB3-D3A38F3B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63557-616E-4929-8488-9F9E7903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156B0-DDED-437D-9C2F-9C6DA9C7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ED9E0-1CE1-454E-B212-4ADE6C5D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BB2AD-251B-459A-BE04-992CF38D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428E1-63CB-4AE4-A438-989BD117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3B0FDB-15AE-4803-BD2E-DE0AD9B1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97A948-6BEC-4253-B15A-6F6608C8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47DE4-1A16-45E7-AA25-4624142A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993DB-AFEF-4414-8D03-F347E70C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A72CFE-BA0F-4B91-B9B6-E59ED314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BA4-683A-4486-8931-E7480722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1E4F17-142C-4F3A-AE76-41FDBA8F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8F22CE-B29B-49F2-B5FF-8E1A9A54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B6EC80-A293-4A3D-9616-6A51DFC6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CDE3EA-1ED7-44ED-A17C-6F7576E5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A54555-C2AE-452F-9244-63F313A7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35402-5225-4EFD-9D3A-3F8FBE78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0C053B-EA2B-4B80-B105-B8581EAF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A8A6D9-FA4A-40E2-BCFB-8147683D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09AEE9-5575-4ADA-A848-6AA86530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204F20-EFFB-40D9-86F3-F9B47C3B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50D7-3B7B-40CE-B928-F63DEE50BE7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B798-B1EC-4868-A0A2-83AE82DA1B2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C3D-E0AA-44AB-AF11-CC6D6508FF5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D52C-191A-4616-A787-4D8E9D7C50C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5138-92B7-48AE-9A23-BD690FBB99C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4C0A-AA77-495B-A68C-671F946F69E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8A64-FE39-4698-A3D2-0FF6665BD94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9DDE-9017-4B62-9C1C-712AA46C214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CD95-01A1-44E7-A7C3-3211DA5E217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41212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5" descr="http://hccceng112.files.wordpress.com/2009/10/speech.jpg%3Fw%3D347%26h%3D346"/>
          <p:cNvPicPr/>
          <p:nvPr/>
        </p:nvPicPr>
        <p:blipFill>
          <a:blip r:embed="rId2"/>
          <a:stretch/>
        </p:blipFill>
        <p:spPr>
          <a:xfrm>
            <a:off x="838080" y="2819520"/>
            <a:ext cx="2162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 faculty or power of speak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oral communic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press one's thoughts and emotions by speech sounds and gesture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te: goal of this speech is to change someone's mind or way of thinking about a topic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. Body language – proper post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. Articulation – how their total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vocal process work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6858000" y="22860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7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1218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. Pronunci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4. Pitch – high and lows of the voi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. Speed – 140 – 160 words per minut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705720" y="4267080"/>
            <a:ext cx="15048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. Pauses – emphasize a certain wor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. Volume – make sure that the students people from the last row can hear the speech clearl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1752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8. Quality - the net caliber of their voice, its character and attribute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9. Variance - change their pitch, volume, and speed at least once every 30 secon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21:46:27Z</dcterms:created>
  <dc:creator>nave1386</dc:creator>
  <dc:description/>
  <dc:language>en-US</dc:language>
  <cp:lastModifiedBy>chito caalim</cp:lastModifiedBy>
  <dcterms:modified xsi:type="dcterms:W3CDTF">2010-09-23T14:19:32Z</dcterms:modified>
  <cp:revision>8</cp:revision>
  <dc:subject/>
  <dc:title>Effective Communication: Persuasive Speech</dc:title>
</cp:coreProperties>
</file>